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42B-2EFC-45C5-8B3B-12037A14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4BA-C309-48F9-82D3-56899FF0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303-198A-4156-8985-49524B60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0872-5D94-49E0-856B-C9EAF969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9C8-8C41-42F1-AF54-2FF30560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297-6651-473F-8508-3B616C59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E7C1-F080-4206-A213-3F192FEE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879-F7D1-4DB4-8247-163681F3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5B7-34C9-4381-BBD2-6E4C5D06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19E-CB2F-4B22-8FA0-5995E795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8EE-E381-4107-BB26-A05E4871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951-8FF8-4F69-8AC8-6C0EE1A0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AB72-FEA6-4FE5-99C7-A6ABAD1F0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Elephant"/>
              </a:rPr>
              <a:t>Jasón y los Argonauta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ddddd"/>
                </a:solidFill>
                <a:latin typeface="Eras Bold ITC"/>
              </a:rPr>
              <a:t>Su referente en Indiana Jones y la última cruz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Fases comu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Eras Bold ITC"/>
                <a:hlinkClick r:id="rId1" action="ppaction://hlinksldjump"/>
              </a:rPr>
              <a:t>El encargo previo._x000b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Eras Bold ITC"/>
                <a:hlinkClick r:id="rId2" action="ppaction://hlinksldjump"/>
              </a:rPr>
              <a:t>El largo viaje.</a:t>
            </a:r>
            <a:br>
              <a:rPr sz="2800"/>
            </a:br>
            <a:r>
              <a:rPr b="0" lang="en-US" sz="2800" spc="-1" strike="noStrike" u="sng">
                <a:solidFill>
                  <a:srgbClr val="dddddd"/>
                </a:solidFill>
                <a:uFillTx/>
                <a:latin typeface="Eras Bol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Eras Bold ITC"/>
              </a:rPr>
              <a:t>Llegada al lugar y enfrentamiento.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Eras Bol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Eras Bold ITC"/>
              </a:rPr>
              <a:t>Ayuda femenina inesperada.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Eras Bol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Eras Bold ITC"/>
              </a:rPr>
              <a:t>Huida accidentada.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Eras Bol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Eras Bold ITC"/>
              </a:rPr>
              <a:t>Retorno victori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Elephant"/>
                <a:hlinkClick r:id="rId1" action="ppaction://hlinksldjump"/>
              </a:rPr>
              <a:t>Encargo prev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ras Bold ITC"/>
              </a:rPr>
              <a:t>Búsqueda del paradero del Santo Grial mediante un diario de pi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4032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Elephant"/>
                <a:hlinkClick r:id="rId1" action="ppaction://hlinksldjump"/>
              </a:rPr>
              <a:t>Largo viaj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Viaje recorrido por Indiana para buscar el Santo G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705672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Elephant"/>
                <a:hlinkClick r:id="rId1" action="ppaction://hlinksldjump"/>
              </a:rPr>
              <a:t>Llegada al lugar y enfrentamien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Enfrentamiento contra  la hermandad de la Santa Cruz en Vene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Enfrentamiento en el castillo con un grupo de creencia naz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68360" y="3500280"/>
            <a:ext cx="4038480" cy="1914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038840" cy="1866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885080" y="458136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Ayuda femenina inespera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ras Bold ITC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Eras Bold ITC"/>
              </a:rPr>
              <a:t>Ayuda de la doctora Elsa Schneider, aliada de los naz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64000" y="2727360"/>
            <a:ext cx="4968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Huida accidenta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2781360"/>
            <a:ext cx="3097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Eras Bold ITC"/>
              </a:rPr>
              <a:t>A la salida del templo de Alejandreta se encuentran con otro perc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573084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Retorno victorios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03640" y="2420640"/>
            <a:ext cx="289080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Indiana consigue sus propósitos: encontrar a su padre y al Santo G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874960" cy="40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30085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432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Realizado por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 Marina Eg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6:54:59Z</dcterms:created>
  <dc:creator>alberto</dc:creator>
  <dc:description/>
  <dc:language>en-US</dc:language>
  <cp:lastModifiedBy>alberto</cp:lastModifiedBy>
  <dcterms:modified xsi:type="dcterms:W3CDTF">2010-01-04T16:47:15Z</dcterms:modified>
  <cp:revision>4</cp:revision>
  <dc:subject/>
  <dc:title>Jasón y los Argonautas</dc:title>
</cp:coreProperties>
</file>